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E8215-E151-45D3-8612-CE78923F5C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74B04-7A67-4E05-8537-F4F535646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ental Congress lacked the power to deal with the new nation’s problems, especially the economic iss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2F654-2B92-4685-AC95-D01D902909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1F4-6166-4814-B8D1-82A78537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A2A2-F2BF-4719-947D-EA4298DC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2B5-1DD1-453D-AE39-41F38621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6FF-A799-42A5-8AC2-3CF8A468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D7F-8DF0-4432-B5FE-8F16C553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BBA-76C8-427B-A693-5FAB67C7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7FB-B5C5-47D7-A706-0119DB33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1C4E-2F88-4C17-AD57-F1FC3719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53A-31C3-416B-9F3F-05BECACE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E6F-47EE-4924-914F-236172BC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7C3-F421-4C44-A321-A79F5278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C56-5109-49EB-B3B1-BE6CA088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7E52D-B43B-4FC0-8D3E-B8C8FDA4946A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41F35-75E1-4125-AC5B-9F7452B855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shistory.org/documents/confederation.ht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Government That Faile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2- The Constitu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. 37-4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2655720" y="1212840"/>
            <a:ext cx="363564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arning Objectiv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lain how the weaknesses of the Articles of Confederation laid the groundwork for the Constitu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Articles of Confedera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constitution of the U.S., which established a government dominated by the stat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oup Task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d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tex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of the Articles of Confederation and summarize each article. Share with your group. Analyze the weaknesses of the Article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– V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 – VII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X – 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XI-XII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Articles of Confeder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tablished a national unicameral legisl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ch state had one vot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wer to maintain army and nav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 power to lay or collect tax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 power to regulate trad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 president nor national court syste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quired unanimous vote to ame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nges in the Stat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democracy and libert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anded political participation increased the power of a new middle clas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creased power of the elite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conomic Turmoil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war Economic Depress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small farms faced foreclosur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wmakers sympathetic to deb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states print worthless mone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Macintosh HD:Users:madisonk:Desktop:Shays Rebellion.mo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hay’s Rebell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3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ared Economic Eli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took the law into their own han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olated property rights of other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2433600" y="3479760"/>
            <a:ext cx="39895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22:24:45Z</dcterms:created>
  <dc:creator>Katie Madison</dc:creator>
  <dc:description/>
  <dc:language>en-US</dc:language>
  <cp:lastModifiedBy>Katie Madison</cp:lastModifiedBy>
  <dcterms:modified xsi:type="dcterms:W3CDTF">2010-08-31T14:22:00Z</dcterms:modified>
  <cp:revision>3</cp:revision>
  <dc:subject/>
  <dc:title>The Government That Failed</dc:title>
</cp:coreProperties>
</file>